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E90-F829-4E43-A954-809E1849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73F-7322-4192-A916-2DBAC703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3D3-D521-4982-A33B-EAC96113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2A5-0A88-43BC-A3B3-927B59A8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2458-D175-4F00-B438-AF00B72A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8DB1-B973-4DD9-8653-0AF6D6FC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C14E-FCDB-46EC-B4AA-7219CDF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C54B-D0F4-40D5-A4E0-7105AE5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DA28-56E2-489E-B461-361001AA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B11E-D65E-42C6-B8B9-317DB55C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0394-BE8A-4DC9-BA64-C65DB61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FC0-5E21-462C-B569-86966393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2C18-0A6F-4CCB-BE75-E86201A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424E-C0B3-4F01-8D41-36CD8E8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6297-324A-45C1-AD3C-3A0E753F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E4B0-2189-4E3B-BB85-97CB2955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D8D-273E-40F2-B851-0F9F6089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80E-A503-4C8C-8B9E-36F5FA7A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FEB-1E37-4867-A88F-28E977ED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D0C-05FB-47DC-A82E-733642BE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C7E-EC24-4D71-9F86-0578E271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192-F5BF-47B4-9210-06C0694D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431-3907-497C-A7CD-2DC537E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5B3-93A4-4CDC-98C1-DD4379A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A8D4-4FC9-4DD4-BB66-37FB29B2245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3B60-3541-41B1-962F-B9128365E2F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countrie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there in the UK ?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5638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81640" y="297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8195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gl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otl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les                                                          Northern Irelan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4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